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13.gif" ContentType="image/gif"/>
  <Override PartName="/ppt/media/image16.jpeg" ContentType="image/jpeg"/>
  <Override PartName="/ppt/media/image23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2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5551-A6B7-41E0-93D1-8F9998A9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D1B-56F4-4F00-BF84-590C2B14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6D7-165B-45EF-A21F-E2E37AE5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3A2-C4B5-4E8C-8813-D58E3E05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487-631C-4438-999B-620BB47D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264-9E03-4E39-A139-BF76556D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581-69E3-4ACD-96EA-E7F26489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1BD-5BF3-4E5C-8547-CEEA9FD4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167-68FF-4888-B537-86598944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EF0-28D0-4DBF-A49B-108FDA95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737-5C58-4C57-9921-2D804585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DE1-DD50-404F-B5A4-EF24A4EC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786C-8FE2-4DEE-A1A3-986A28A96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2239" r="3728" b="0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42" name="Блок-схема: перфолента 3"/>
          <p:cNvSpPr/>
          <p:nvPr/>
        </p:nvSpPr>
        <p:spPr>
          <a:xfrm>
            <a:off x="179280" y="4724280"/>
            <a:ext cx="6653160" cy="1944720"/>
          </a:xfrm>
          <a:prstGeom prst="flowChartPunchedTap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1" descr="i?id=11015664&amp;tov=3"/>
          <p:cNvPicPr/>
          <p:nvPr/>
        </p:nvPicPr>
        <p:blipFill>
          <a:blip r:embed="rId2"/>
          <a:stretch/>
        </p:blipFill>
        <p:spPr>
          <a:xfrm>
            <a:off x="6877080" y="4005360"/>
            <a:ext cx="2266920" cy="2643120"/>
          </a:xfrm>
          <a:prstGeom prst="rect">
            <a:avLst/>
          </a:prstGeom>
          <a:ln w="9360">
            <a:solidFill>
              <a:srgbClr val="50421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539640" y="4869000"/>
            <a:ext cx="61200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50421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50421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Химия табачного дыма</a:t>
            </a:r>
            <a:endParaRPr b="0" lang="en-US" sz="1800" spc="1" strike="noStrike">
              <a:ln w="25560">
                <a:solidFill>
                  <a:srgbClr val="50421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50421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afc8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214200" y="485784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Парадокс химического состава сигарет состоит в том, что люди фактически потребляют не те вещества, которые содержатся в самом изделии, а те, которые образуются в результате его сгор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i?id=71695394&amp;tov=2"/>
          <p:cNvPicPr/>
          <p:nvPr/>
        </p:nvPicPr>
        <p:blipFill>
          <a:blip r:embed="rId1"/>
          <a:stretch/>
        </p:blipFill>
        <p:spPr>
          <a:xfrm>
            <a:off x="5219640" y="333360"/>
            <a:ext cx="2675160" cy="200016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pic>
        <p:nvPicPr>
          <p:cNvPr id="77" name="Picture 6" descr=""/>
          <p:cNvPicPr/>
          <p:nvPr/>
        </p:nvPicPr>
        <p:blipFill>
          <a:blip r:embed="rId2"/>
          <a:srcRect l="4523" t="9039" r="605" b="0"/>
          <a:stretch/>
        </p:blipFill>
        <p:spPr>
          <a:xfrm>
            <a:off x="971640" y="2637000"/>
            <a:ext cx="3095640" cy="222552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326520" y="260280"/>
            <a:ext cx="4758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 настоящему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табачных издел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наружено око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4000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имических соедине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32320" y="2492280"/>
            <a:ext cx="32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 в табачном дым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коло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5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c832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9"/>
          <p:cNvSpPr/>
          <p:nvPr/>
        </p:nvSpPr>
        <p:spPr>
          <a:xfrm rot="10800000">
            <a:off x="4355640" y="1915920"/>
            <a:ext cx="398520" cy="936360"/>
          </a:xfrm>
          <a:prstGeom prst="downArrow">
            <a:avLst>
              <a:gd name="adj1" fmla="val 50000"/>
              <a:gd name="adj2" fmla="val 5874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3564000" y="1052640"/>
            <a:ext cx="1871640" cy="7920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Нико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2781360"/>
            <a:ext cx="3313080" cy="1439640"/>
          </a:xfrm>
          <a:custGeom>
            <a:avLst/>
            <a:gdLst>
              <a:gd name="textAreaLeft" fmla="*/ 0 w 3313080"/>
              <a:gd name="textAreaRight" fmla="*/ 3313440 w 3313080"/>
              <a:gd name="textAreaTop" fmla="*/ 186480 h 1439640"/>
              <a:gd name="textAreaBottom" fmla="*/ 12531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306864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4020"/>
                </a:solidFill>
                <a:latin typeface="Times New Roman"/>
              </a:rPr>
              <a:t>Табачный д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6516720" y="1557360"/>
            <a:ext cx="1871640" cy="7207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См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 rot="13770000">
            <a:off x="6569640" y="2295720"/>
            <a:ext cx="398520" cy="936720"/>
          </a:xfrm>
          <a:prstGeom prst="downArrow">
            <a:avLst>
              <a:gd name="adj1" fmla="val 50000"/>
              <a:gd name="adj2" fmla="val 58762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4284720" y="4653000"/>
            <a:ext cx="398520" cy="936720"/>
          </a:xfrm>
          <a:prstGeom prst="downArrow">
            <a:avLst>
              <a:gd name="adj1" fmla="val 50000"/>
              <a:gd name="adj2" fmla="val 58762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 rot="5400000">
            <a:off x="2247480" y="3376440"/>
            <a:ext cx="398520" cy="792360"/>
          </a:xfrm>
          <a:prstGeom prst="downArrow">
            <a:avLst>
              <a:gd name="adj1" fmla="val 50000"/>
              <a:gd name="adj2" fmla="val 49706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 rot="8194800">
            <a:off x="2339640" y="2205000"/>
            <a:ext cx="398520" cy="936720"/>
          </a:xfrm>
          <a:prstGeom prst="downArrow">
            <a:avLst>
              <a:gd name="adj1" fmla="val 50000"/>
              <a:gd name="adj2" fmla="val 58762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 rot="16200000">
            <a:off x="6640560" y="3447720"/>
            <a:ext cx="398520" cy="792360"/>
          </a:xfrm>
          <a:prstGeom prst="downArrow">
            <a:avLst>
              <a:gd name="adj1" fmla="val 50000"/>
              <a:gd name="adj2" fmla="val 49706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468360" y="1268280"/>
            <a:ext cx="1871640" cy="9367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Окс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3348000" y="5734080"/>
            <a:ext cx="2376360" cy="86364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Сини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7308720" y="3500280"/>
            <a:ext cx="1656000" cy="7207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Акроле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179280" y="5300640"/>
            <a:ext cx="2376720" cy="12952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Доба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для маск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вк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 rot="2883600">
            <a:off x="2464200" y="4384080"/>
            <a:ext cx="398520" cy="936360"/>
          </a:xfrm>
          <a:prstGeom prst="downArrow">
            <a:avLst>
              <a:gd name="adj1" fmla="val 50000"/>
              <a:gd name="adj2" fmla="val 5874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 rot="18324600">
            <a:off x="6353640" y="4527720"/>
            <a:ext cx="398520" cy="936720"/>
          </a:xfrm>
          <a:prstGeom prst="downArrow">
            <a:avLst>
              <a:gd name="adj1" fmla="val 50000"/>
              <a:gd name="adj2" fmla="val 58762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6659640" y="5516640"/>
            <a:ext cx="1871640" cy="7920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Окс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аз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79280" y="3500280"/>
            <a:ext cx="1692360" cy="7207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Метал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3520" y="189000"/>
            <a:ext cx="68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4724"/>
                </a:solidFill>
                <a:latin typeface="Times New Roman"/>
              </a:rPr>
              <a:t>Химический состав табачного ды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c832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189000"/>
            <a:ext cx="424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4724"/>
                </a:solidFill>
                <a:latin typeface="Times New Roman"/>
              </a:rPr>
              <a:t>Нико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4" descr="000011"/>
          <p:cNvPicPr/>
          <p:nvPr/>
        </p:nvPicPr>
        <p:blipFill>
          <a:blip r:embed="rId1"/>
          <a:stretch/>
        </p:blipFill>
        <p:spPr>
          <a:xfrm>
            <a:off x="0" y="1125360"/>
            <a:ext cx="3095640" cy="232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32000" y="1229760"/>
            <a:ext cx="60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новным для табачных изделий веществом, из-за которого их употребляют, является никот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икоти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вляется естественным компонентом табачных растений. В больших количествах он весьма токсичен. Никотин является естественной защитой табачного растения от поедания насекомыми. Смертельная доза составляет всего 60 мг никотина, а для детей – еще меньше. В выкуренной сигарете содержится порядка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 м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никотина, но через дым курильщик получает из одной сигареты порядка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,533м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никот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Картинка 6 из 11"/>
          <p:cNvPicPr/>
          <p:nvPr/>
        </p:nvPicPr>
        <p:blipFill>
          <a:blip r:embed="rId2">
            <a:lum bright="-48000"/>
          </a:blip>
          <a:stretch/>
        </p:blipFill>
        <p:spPr>
          <a:xfrm>
            <a:off x="179280" y="4005360"/>
            <a:ext cx="2843280" cy="669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5423400"/>
            <a:ext cx="142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e5"/>
            </a:gs>
            <a:gs pos="100000">
              <a:srgbClr val="ffa8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5157000"/>
            <a:ext cx="87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о время курения 20% вредных веществ, содержащихся в табаке, сгорает; 25% задерживается в легких курящего, 5% остается в окурке, а остальные 50%  загрязняют окружающую сре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985400"/>
            <a:ext cx="532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ждые шесть с половиной секунд от болезней, связанных с курением, в мире умирает один 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жегодно от курения в мире умирают 4,9 миллиона человек. Ученые просчитали, что если потребление табака будет идти такими же темпами, то в ближайшие 20 лет эта цифра увеличится в два р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6"/>
          <p:cNvSpPr txBox="1"/>
          <p:nvPr/>
        </p:nvSpPr>
        <p:spPr>
          <a:xfrm>
            <a:off x="755640" y="333360"/>
            <a:ext cx="7740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623402"/>
                  </a:solidFill>
                  <a:miter/>
                </a:ln>
                <a:gradFill rotWithShape="0">
                  <a:gsLst>
                    <a:gs pos="0">
                      <a:srgbClr val="ffe6cd"/>
                    </a:gs>
                    <a:gs pos="100000">
                      <a:srgbClr val="d5720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Курение и здоровье</a:t>
            </a:r>
            <a:endParaRPr b="0" lang="en-US" sz="1800" spc="1" strike="noStrike">
              <a:ln w="25560">
                <a:solidFill>
                  <a:srgbClr val="623402"/>
                </a:solidFill>
                <a:miter/>
              </a:ln>
              <a:gradFill rotWithShape="0">
                <a:gsLst>
                  <a:gs pos="0">
                    <a:srgbClr val="ffe6cd"/>
                  </a:gs>
                  <a:gs pos="100000">
                    <a:srgbClr val="d5720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3070080" cy="2714760"/>
          </a:xfrm>
          <a:prstGeom prst="rect">
            <a:avLst/>
          </a:prstGeom>
          <a:ln w="38160">
            <a:solidFill>
              <a:srgbClr val="b4600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e5"/>
            </a:gs>
            <a:gs pos="100000">
              <a:srgbClr val="ffa8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1197000"/>
            <a:ext cx="2340000" cy="947520"/>
          </a:xfrm>
          <a:prstGeom prst="rect">
            <a:avLst/>
          </a:prstGeom>
          <a:solidFill>
            <a:srgbClr val="ffff99"/>
          </a:solidFill>
          <a:ln w="12600">
            <a:solidFill>
              <a:srgbClr val="b46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гарный 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арушение дых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болезни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2492280"/>
            <a:ext cx="2376720" cy="1496160"/>
          </a:xfrm>
          <a:prstGeom prst="rect">
            <a:avLst/>
          </a:prstGeom>
          <a:solidFill>
            <a:srgbClr val="ffff99"/>
          </a:solidFill>
          <a:ln w="12600">
            <a:solidFill>
              <a:srgbClr val="b46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ико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Заболевания сердц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кровеносных сосуд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лёгких и дых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пу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5157720"/>
            <a:ext cx="2987640" cy="1496160"/>
          </a:xfrm>
          <a:prstGeom prst="rect">
            <a:avLst/>
          </a:prstGeom>
          <a:solidFill>
            <a:srgbClr val="ffff99"/>
          </a:solidFill>
          <a:ln w="12600">
            <a:solidFill>
              <a:srgbClr val="b46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нцерогенные см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Раковые заболевания, повреждения зубной эма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оспаление слизистых обол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4581360"/>
            <a:ext cx="252108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b46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инильн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Болезни сердца 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2349360"/>
            <a:ext cx="2665440" cy="1770480"/>
          </a:xfrm>
          <a:prstGeom prst="rect">
            <a:avLst/>
          </a:prstGeom>
          <a:solidFill>
            <a:srgbClr val="ffff99"/>
          </a:solidFill>
          <a:ln w="12600">
            <a:solidFill>
              <a:srgbClr val="b46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ир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Нарушение слуха, зр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поражение органов осяз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и обон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4292640"/>
            <a:ext cx="237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b46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диоак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ле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Раковые заболев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болезни крови и лёг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0720" y="1268280"/>
            <a:ext cx="251928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b46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кроле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«Табачный» каш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курение губит красоту"/>
          <p:cNvPicPr/>
          <p:nvPr/>
        </p:nvPicPr>
        <p:blipFill>
          <a:blip r:embed="rId1"/>
          <a:stretch/>
        </p:blipFill>
        <p:spPr>
          <a:xfrm>
            <a:off x="2627280" y="155736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48760" y="259560"/>
            <a:ext cx="84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4a03"/>
                </a:solidFill>
                <a:latin typeface="Times New Roman"/>
              </a:rPr>
              <a:t>Курение приводит к развитию заболевани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e5"/>
            </a:gs>
            <a:gs pos="50000">
              <a:srgbClr val="ffa829"/>
            </a:gs>
            <a:gs pos="100000">
              <a:srgbClr val="fff2e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0" r="12439" b="23090"/>
          <a:stretch/>
        </p:blipFill>
        <p:spPr>
          <a:xfrm>
            <a:off x="826920" y="2133720"/>
            <a:ext cx="6120000" cy="3822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659640" y="2492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802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6a3802"/>
                </a:solidFill>
                <a:latin typeface="Times New Roman"/>
              </a:rPr>
              <a:t>5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1989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802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6a3802"/>
                </a:solidFill>
                <a:latin typeface="Times New Roman"/>
              </a:rPr>
              <a:t> 6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59640" y="2924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802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6a3802"/>
                </a:solidFill>
                <a:latin typeface="Times New Roman"/>
              </a:rPr>
              <a:t>4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3357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802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6a3802"/>
                </a:solidFill>
                <a:latin typeface="Times New Roman"/>
              </a:rPr>
              <a:t>3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2720" y="3860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802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6a3802"/>
                </a:solidFill>
                <a:latin typeface="Times New Roman"/>
              </a:rPr>
              <a:t>2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4365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802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6a3802"/>
                </a:solidFill>
                <a:latin typeface="Times New Roman"/>
              </a:rPr>
              <a:t>1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2720" y="5084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a3802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6a3802"/>
                </a:solidFill>
                <a:latin typeface="Times New Roman"/>
              </a:rPr>
              <a:t>пер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404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a3802"/>
                </a:solidFill>
                <a:latin typeface="Times New Roman"/>
              </a:rPr>
              <a:t>Увлекательная жиз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Картинка 90 из 3740"/>
          <p:cNvPicPr/>
          <p:nvPr/>
        </p:nvPicPr>
        <p:blipFill>
          <a:blip r:embed="rId2"/>
          <a:stretch/>
        </p:blipFill>
        <p:spPr>
          <a:xfrm>
            <a:off x="179280" y="476280"/>
            <a:ext cx="1787760" cy="1800360"/>
          </a:xfrm>
          <a:prstGeom prst="rect">
            <a:avLst/>
          </a:prstGeom>
          <a:ln w="38160">
            <a:solidFill>
              <a:srgbClr val="b4600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29"/>
            </a:gs>
            <a:gs pos="100000">
              <a:srgbClr val="fff2e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6873840" cy="4635360"/>
          </a:xfrm>
          <a:prstGeom prst="rect">
            <a:avLst/>
          </a:prstGeom>
          <a:ln w="38160">
            <a:solidFill>
              <a:srgbClr val="b46004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324000" y="4716720"/>
            <a:ext cx="88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Каждый год отмечаются две даты, посвященные проблеме курения табака — 31 мая (Всемирный день без табачного дыма) и третий четверг ноября (Международный день отказа от  курения) — с целью привлечения внимания общественности к негативным последствиям курения таб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d5"/>
            </a:gs>
            <a:gs pos="50000">
              <a:srgbClr val="ffa829"/>
            </a:gs>
            <a:gs pos="100000">
              <a:srgbClr val="fff0d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Картинка 35 из 180"/>
          <p:cNvPicPr/>
          <p:nvPr/>
        </p:nvPicPr>
        <p:blipFill>
          <a:blip r:embed="rId1"/>
          <a:stretch/>
        </p:blipFill>
        <p:spPr>
          <a:xfrm>
            <a:off x="539640" y="476280"/>
            <a:ext cx="8170920" cy="5470560"/>
          </a:xfrm>
          <a:prstGeom prst="rect">
            <a:avLst/>
          </a:prstGeom>
          <a:ln w="38160">
            <a:solidFill>
              <a:srgbClr val="6a3802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32000" y="1413000"/>
            <a:ext cx="2882880" cy="4103640"/>
          </a:xfrm>
          <a:prstGeom prst="rect">
            <a:avLst/>
          </a:prstGeom>
          <a:ln w="76320">
            <a:solidFill>
              <a:srgbClr val="6a380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Картинка 3 из 2065"/>
          <p:cNvPicPr/>
          <p:nvPr/>
        </p:nvPicPr>
        <p:blipFill>
          <a:blip r:embed="rId1"/>
          <a:stretch/>
        </p:blipFill>
        <p:spPr>
          <a:xfrm>
            <a:off x="1835280" y="1916280"/>
            <a:ext cx="5572080" cy="4181400"/>
          </a:xfrm>
          <a:prstGeom prst="rect">
            <a:avLst/>
          </a:prstGeom>
          <a:ln w="38160">
            <a:solidFill>
              <a:srgbClr val="637038"/>
            </a:solidFill>
            <a:miter/>
          </a:ln>
        </p:spPr>
      </p:pic>
      <p:sp>
        <p:nvSpPr>
          <p:cNvPr id="46" name="WordArt 8"/>
          <p:cNvSpPr txBox="1"/>
          <p:nvPr/>
        </p:nvSpPr>
        <p:spPr>
          <a:xfrm>
            <a:off x="1857240" y="357120"/>
            <a:ext cx="694404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50421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63703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Происхождение табака</a:t>
            </a:r>
            <a:endParaRPr b="0" lang="en-US" sz="1800" spc="1" strike="noStrike">
              <a:ln w="25560">
                <a:solidFill>
                  <a:srgbClr val="50421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63703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" name="Picture 6" descr="Происхождение табака "/>
          <p:cNvPicPr/>
          <p:nvPr/>
        </p:nvPicPr>
        <p:blipFill>
          <a:blip r:embed="rId2"/>
          <a:stretch/>
        </p:blipFill>
        <p:spPr>
          <a:xfrm>
            <a:off x="285840" y="214200"/>
            <a:ext cx="1357200" cy="1494000"/>
          </a:xfrm>
          <a:prstGeom prst="rect">
            <a:avLst/>
          </a:prstGeom>
          <a:ln w="38160">
            <a:solidFill>
              <a:srgbClr val="63703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3995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ение табака возникло еще в глубокой древности. Так, в Египте при раскопках могил фараонов, относящихся к XXI-XVIII вв. до н. э., были найдены глиняные курительные трубки. Греческий историк Геродот  (V в. до н. э.), описывая жизнь и быт скифов, упоминал о том, что они вдыхали дым сжигаемых растений. В древней китайской литературе можно найти свидетельства о курении таб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натуральный табак, продажа табака"/>
          <p:cNvPicPr/>
          <p:nvPr/>
        </p:nvPicPr>
        <p:blipFill>
          <a:blip r:embed="rId1"/>
          <a:stretch/>
        </p:blipFill>
        <p:spPr>
          <a:xfrm>
            <a:off x="4859280" y="1341360"/>
            <a:ext cx="3925800" cy="4464000"/>
          </a:xfrm>
          <a:prstGeom prst="rect">
            <a:avLst/>
          </a:prstGeom>
          <a:ln w="38160">
            <a:solidFill>
              <a:srgbClr val="637038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2701800" y="260280"/>
            <a:ext cx="269244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319"/>
                </a:solidFill>
                <a:latin typeface="Times New Roman"/>
              </a:rPr>
              <a:t>Преды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d5"/>
            </a:gs>
            <a:gs pos="100000">
              <a:srgbClr val="d5c8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00360" y="404640"/>
            <a:ext cx="4071960" cy="37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трубок сохранилось на старых индийских картинах. Курение табака имело место в древности и в ряде стран Азии. Однако большинство народов долгое время ничего не знали о табаке и прекрасно обходились без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1"/>
          <p:cNvPicPr/>
          <p:nvPr/>
        </p:nvPicPr>
        <p:blipFill>
          <a:blip r:embed="rId1"/>
          <a:stretch/>
        </p:blipFill>
        <p:spPr>
          <a:xfrm>
            <a:off x="395280" y="549360"/>
            <a:ext cx="3973680" cy="4895640"/>
          </a:xfrm>
          <a:prstGeom prst="rect">
            <a:avLst/>
          </a:prstGeom>
          <a:ln w="38160">
            <a:solidFill>
              <a:srgbClr val="637038"/>
            </a:solidFill>
            <a:miter/>
          </a:ln>
        </p:spPr>
      </p:pic>
      <p:pic>
        <p:nvPicPr>
          <p:cNvPr id="53" name="Picture 5" descr="00014"/>
          <p:cNvPicPr/>
          <p:nvPr/>
        </p:nvPicPr>
        <p:blipFill>
          <a:blip r:embed="rId2"/>
          <a:stretch/>
        </p:blipFill>
        <p:spPr>
          <a:xfrm>
            <a:off x="5867280" y="4365720"/>
            <a:ext cx="1106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563640" y="980640"/>
            <a:ext cx="50720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ач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ение происходит из Центральной и Южной Америки и принадлежит к роду Nicotiana семейства пасленовых (Solanaceae), которое включает белладонну, перец, томаты и другие. Род Nicotiana насчитывает около 70 видов, из которых лиш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otiana tabacum L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бак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otiana rusti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хорк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ходят широкое применение. Некоторые виды используются для декоративных целей, благодаря красивым цветкам и листьям и приятному запаху (Nicotiana alata L. и Nicotiana sylvestris L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табачная продукция, табак сигареты"/>
          <p:cNvPicPr/>
          <p:nvPr/>
        </p:nvPicPr>
        <p:blipFill>
          <a:blip r:embed="rId1"/>
          <a:stretch/>
        </p:blipFill>
        <p:spPr>
          <a:xfrm>
            <a:off x="900000" y="260280"/>
            <a:ext cx="2000520" cy="3184560"/>
          </a:xfrm>
          <a:prstGeom prst="rect">
            <a:avLst/>
          </a:prstGeom>
          <a:ln w="38160">
            <a:solidFill>
              <a:srgbClr val="637038"/>
            </a:solidFill>
            <a:miter/>
          </a:ln>
        </p:spPr>
      </p:pic>
      <p:pic>
        <p:nvPicPr>
          <p:cNvPr id="56" name="Picture 7" descr="nicotiana_glauca_211201bsas"/>
          <p:cNvPicPr/>
          <p:nvPr/>
        </p:nvPicPr>
        <p:blipFill>
          <a:blip r:embed="rId2"/>
          <a:stretch/>
        </p:blipFill>
        <p:spPr>
          <a:xfrm>
            <a:off x="900000" y="3573360"/>
            <a:ext cx="2021040" cy="2089080"/>
          </a:xfrm>
          <a:prstGeom prst="rect">
            <a:avLst/>
          </a:prstGeom>
          <a:ln w="38160">
            <a:solidFill>
              <a:srgbClr val="637038"/>
            </a:solidFill>
            <a:miter/>
          </a:ln>
        </p:spPr>
      </p:pic>
      <p:sp>
        <p:nvSpPr>
          <p:cNvPr id="57" name="Прямоугольник 2"/>
          <p:cNvSpPr/>
          <p:nvPr/>
        </p:nvSpPr>
        <p:spPr>
          <a:xfrm>
            <a:off x="539640" y="5670720"/>
            <a:ext cx="806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Американские индейцы, хотя и курили  табак, но главным образом применяли  его как лекарственное средство: листьями лечили раны и нагно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360" y="189000"/>
            <a:ext cx="308556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319"/>
                </a:solidFill>
                <a:latin typeface="Times New Roman"/>
              </a:rPr>
              <a:t>Происхо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319"/>
                </a:solidFill>
                <a:latin typeface="Times New Roman"/>
              </a:rPr>
              <a:t>Открытие – «некие высушенные лист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3989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-10-149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умб открывает таба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некие высушенные листья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олучены от индейцев в подарок и выброшены за ненадобностью. Тем ярким утром Колумб и его люди впервые ступили на землю Нового Света, высадившись на берегу Сан Сальвад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интернет магазин табак, продажа табака"/>
          <p:cNvPicPr/>
          <p:nvPr/>
        </p:nvPicPr>
        <p:blipFill>
          <a:blip r:embed="rId1"/>
          <a:stretch/>
        </p:blipFill>
        <p:spPr>
          <a:xfrm>
            <a:off x="250920" y="3933720"/>
            <a:ext cx="3384360" cy="2505240"/>
          </a:xfrm>
          <a:prstGeom prst="rect">
            <a:avLst/>
          </a:prstGeom>
          <a:ln w="38160">
            <a:solidFill>
              <a:srgbClr val="637038"/>
            </a:solidFill>
            <a:miter/>
          </a:ln>
        </p:spPr>
      </p:pic>
      <p:pic>
        <p:nvPicPr>
          <p:cNvPr id="62" name="Picture 6" descr="003"/>
          <p:cNvPicPr/>
          <p:nvPr/>
        </p:nvPicPr>
        <p:blipFill>
          <a:blip r:embed="rId2"/>
          <a:stretch/>
        </p:blipFill>
        <p:spPr>
          <a:xfrm>
            <a:off x="6372360" y="1268280"/>
            <a:ext cx="1649160" cy="2305080"/>
          </a:xfrm>
          <a:prstGeom prst="rect">
            <a:avLst/>
          </a:prstGeom>
          <a:ln w="57240">
            <a:solidFill>
              <a:srgbClr val="637038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959280" y="3789360"/>
            <a:ext cx="51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боригены, возможно принимая их за божественных посланцев, предлагают подарки. Адмирал пишет в своем журнале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местные жители принесли фрукты, деревянные дротики, и некие высушенные листья, издававшие особый аромат»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55436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560: Португалия, Франц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ан Нико де Виллемаин (Jean Nicot de Villemain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осол Франции в Португалии, пишет о медицинских свойствах табака, называя его панацеей, и отправляет растения рустики (махорки) ко Французскому двору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Jean Nicot - 1530-160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1561: ФРАНЦ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ико отправляет снаф (нюхательный табак) Екатерине Медичи для излечения ее сына Франциска II от мигр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50920" y="56610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Позднее имя французского амбассадора будет увековечено в названии ботанического рода Nicotiana и всем известного алкалоида нико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jean"/>
          <p:cNvPicPr/>
          <p:nvPr/>
        </p:nvPicPr>
        <p:blipFill>
          <a:blip r:embed="rId1"/>
          <a:stretch/>
        </p:blipFill>
        <p:spPr>
          <a:xfrm>
            <a:off x="6156360" y="1341360"/>
            <a:ext cx="2732040" cy="3456000"/>
          </a:xfrm>
          <a:prstGeom prst="rect">
            <a:avLst/>
          </a:prstGeom>
          <a:ln w="38160">
            <a:solidFill>
              <a:srgbClr val="637038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537480" y="260280"/>
            <a:ext cx="494172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319"/>
                </a:solidFill>
                <a:latin typeface="Times New Roman"/>
              </a:rPr>
              <a:t>Распространение по ми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d5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62640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 концу XVIII в. в мире уже не было страны, куда бы не проник таб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настоящее время во всем мире курят сотни миллионов людей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ужчин и женщин разных национальностей, возрастов, образования, социального положения. Курят не задумываясь о последствиях, растворяя свое здоровье в табачном ды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ространенность курения, подобно страшным инфекционным болезням , уже называют эпидем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00009"/>
          <p:cNvPicPr/>
          <p:nvPr/>
        </p:nvPicPr>
        <p:blipFill>
          <a:blip r:embed="rId1"/>
          <a:stretch/>
        </p:blipFill>
        <p:spPr>
          <a:xfrm>
            <a:off x="6443640" y="4508640"/>
            <a:ext cx="2021040" cy="20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1183533026_54821_4235286-pw"/>
          <p:cNvPicPr/>
          <p:nvPr/>
        </p:nvPicPr>
        <p:blipFill>
          <a:blip r:embed="rId2"/>
          <a:stretch/>
        </p:blipFill>
        <p:spPr>
          <a:xfrm>
            <a:off x="7164360" y="981000"/>
            <a:ext cx="1679760" cy="2519280"/>
          </a:xfrm>
          <a:prstGeom prst="rect">
            <a:avLst/>
          </a:prstGeom>
          <a:ln w="38160">
            <a:solidFill>
              <a:srgbClr val="637038"/>
            </a:solidFill>
            <a:miter/>
          </a:ln>
        </p:spPr>
      </p:pic>
      <p:pic>
        <p:nvPicPr>
          <p:cNvPr id="71" name="smoking%5B6644%5D(300x238)" descr=""/>
          <p:cNvPicPr/>
          <p:nvPr/>
        </p:nvPicPr>
        <p:blipFill>
          <a:blip r:embed="rId3"/>
          <a:stretch/>
        </p:blipFill>
        <p:spPr>
          <a:xfrm>
            <a:off x="2124000" y="4581360"/>
            <a:ext cx="1595520" cy="1845000"/>
          </a:xfrm>
          <a:prstGeom prst="rect">
            <a:avLst/>
          </a:prstGeom>
          <a:ln w="38160">
            <a:solidFill>
              <a:srgbClr val="63703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afc8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2"/>
          <p:cNvSpPr/>
          <p:nvPr/>
        </p:nvSpPr>
        <p:spPr>
          <a:xfrm>
            <a:off x="684360" y="5661000"/>
            <a:ext cx="806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Токсичность табачного дыма в 4,25 р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превышает токсичность выхлопных газов автомобилей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Картинка 17 из 2065"/>
          <p:cNvPicPr/>
          <p:nvPr/>
        </p:nvPicPr>
        <p:blipFill>
          <a:blip r:embed="rId1"/>
          <a:stretch/>
        </p:blipFill>
        <p:spPr>
          <a:xfrm>
            <a:off x="2050920" y="2060640"/>
            <a:ext cx="4716720" cy="3540240"/>
          </a:xfrm>
          <a:prstGeom prst="rect">
            <a:avLst/>
          </a:prstGeom>
          <a:ln w="38160">
            <a:solidFill>
              <a:srgbClr val="637038"/>
            </a:solidFill>
            <a:miter/>
          </a:ln>
        </p:spPr>
      </p:pic>
      <p:sp>
        <p:nvSpPr>
          <p:cNvPr id="74" name="WordArt 6"/>
          <p:cNvSpPr txBox="1"/>
          <p:nvPr/>
        </p:nvSpPr>
        <p:spPr>
          <a:xfrm>
            <a:off x="395280" y="260280"/>
            <a:ext cx="8531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504210"/>
                  </a:solidFill>
                  <a:miter/>
                </a:ln>
                <a:gradFill rotWithShape="0">
                  <a:gsLst>
                    <a:gs pos="0">
                      <a:srgbClr val="cccc00"/>
                    </a:gs>
                    <a:gs pos="100000">
                      <a:srgbClr val="434b1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Химический состав</a:t>
            </a:r>
            <a:endParaRPr b="0" lang="en-US" sz="1800" spc="1" strike="noStrike">
              <a:ln w="25560">
                <a:solidFill>
                  <a:srgbClr val="504210"/>
                </a:solidFill>
                <a:miter/>
              </a:ln>
              <a:gradFill rotWithShape="0">
                <a:gsLst>
                  <a:gs pos="0">
                    <a:srgbClr val="cccc00"/>
                  </a:gs>
                  <a:gs pos="100000">
                    <a:srgbClr val="434b1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504210"/>
                  </a:solidFill>
                  <a:miter/>
                </a:ln>
                <a:gradFill rotWithShape="0">
                  <a:gsLst>
                    <a:gs pos="0">
                      <a:srgbClr val="cccc00"/>
                    </a:gs>
                    <a:gs pos="100000">
                      <a:srgbClr val="434b1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25560">
                  <a:solidFill>
                    <a:srgbClr val="504210"/>
                  </a:solidFill>
                  <a:miter/>
                </a:ln>
                <a:gradFill rotWithShape="0">
                  <a:gsLst>
                    <a:gs pos="0">
                      <a:srgbClr val="cccc00"/>
                    </a:gs>
                    <a:gs pos="100000">
                      <a:srgbClr val="434b1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табачного дыма</a:t>
            </a:r>
            <a:endParaRPr b="0" lang="en-US" sz="1800" spc="1" strike="noStrike">
              <a:ln w="25560">
                <a:solidFill>
                  <a:srgbClr val="504210"/>
                </a:solidFill>
                <a:miter/>
              </a:ln>
              <a:gradFill rotWithShape="0">
                <a:gsLst>
                  <a:gs pos="0">
                    <a:srgbClr val="cccc00"/>
                  </a:gs>
                  <a:gs pos="100000">
                    <a:srgbClr val="434b1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8:32:25Z</dcterms:created>
  <dc:creator>mmc</dc:creator>
  <dc:description/>
  <dc:language>en-US</dc:language>
  <cp:lastModifiedBy>mmc</cp:lastModifiedBy>
  <dcterms:modified xsi:type="dcterms:W3CDTF">2009-01-27T09:09:26Z</dcterms:modified>
  <cp:revision>24</cp:revision>
  <dc:subject/>
  <dc:title>Слайд 1</dc:title>
</cp:coreProperties>
</file>